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651-E3BE-4383-B2CB-222500CA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43F-D77F-4FCB-87CE-8EC65118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1DC-3860-460E-8D20-7C67277E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9B0-DA30-474F-BB61-3B7CF305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E87-8343-4E1B-A7A2-753DAF97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E9A-5FF1-4D80-9493-9553BC6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4E1-1520-4773-81C9-FC2DC5D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CC4-A773-4668-B0B1-E573010D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2A0-9AF0-4838-AA93-128C5D4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98B-1998-4C4C-A3D7-917DF36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6FA-B01E-4D1C-81F3-6293EE3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DE0-51CF-46CC-AB73-048147A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0D5-45E3-40FD-A137-164E57C40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ee Th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oting free throws without bouncing the ball and bouncing th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’m going to get some people to shoot free throws and I’m going to let them bounce the balls and not be able to bounce the b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when they can bounce the ball they will mak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y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028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a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if the gym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seven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hem shoot free throws with bouncing and without bou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he shots they made with bouncing and wit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couldn’t bounce it they made more than when they could bounce it. With bouncing it, it was 9 and without it was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47760" y="4781520"/>
            <a:ext cx="195264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8985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rediction was incorrect. They made more free throws when they couldn’t bounce the balls. I thought that was surprising, because when you watch T.V. you always see them bouncing the ball to warm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4724280"/>
            <a:ext cx="122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7:06:12Z</dcterms:created>
  <dc:creator>USD376</dc:creator>
  <dc:description/>
  <dc:language>en-US</dc:language>
  <cp:lastModifiedBy>USD376</cp:lastModifiedBy>
  <dcterms:modified xsi:type="dcterms:W3CDTF">2011-02-16T16:45:45Z</dcterms:modified>
  <cp:revision>3</cp:revision>
  <dc:subject/>
  <dc:title>Free Throws</dc:title>
</cp:coreProperties>
</file>